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7167563" cy="537845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4B1D-14C9-4E8D-82F3-E5E1732086D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F10E-05D8-4FEC-A740-83D9568B28CC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472-20A0-4B46-B7F8-E89933FC1C9B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C477-60D5-40E2-AE23-718E24D3504A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51C-1F76-45F6-AC88-DA856BCD109C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D93D-20F7-48D2-9024-28C653CD82BE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CA29-5A96-414A-895F-D8E78EB9457D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B33B-CF17-4D6D-8EAB-ED9F865F1CE1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3C7D-1025-4E9E-8546-8576B4C6002E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42C-D404-4170-A198-65DAF44EC9A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6103-2EFE-4FFA-ADA2-BE20FCB8759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6E95-22E4-4034-94DB-400C6DA037A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FF41-E5FC-404B-B494-A98CBF8B22D6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2282-B99D-4F08-9425-9EBA2B6EFF1F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6E91-CAA6-4962-9E68-6470C1AE5BD4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8A63-0ECA-46AA-92EF-F72DBB0EECD5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25E7-C890-4F69-A50B-FBB6BC3D5DCB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6F29-1262-4A14-927F-5613BD543BA4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8F8B-21C3-4D81-89A9-32E4927CE70C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C39F-B62B-46A8-92C1-4BF1BE68200F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7BB4-EB2E-4757-9B11-C59F321DA63C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7430-8D31-40C7-9680-2CDE24C6D346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D6B7-C244-49BE-81E3-9DC3870F35FB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6F85-F29F-4DA8-BF82-CA14869F6145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4570-D93D-473B-9795-EACE4345F82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9404-2FFB-4321-AD96-6A4B2C72A7AA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D04-C84A-4352-9A44-A73FAE26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560" y="310860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DD9-E433-4399-BC60-05227A47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444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4C8-47F5-4D80-AA58-4538140E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016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2140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56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016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2140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B14-615C-4950-909A-40AECE90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9BB-036F-42EA-AA34-04A75AC2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68A-B94C-423C-8C81-B4ACF15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008-3536-4D5F-925E-26AA9C2E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B01-C9BE-4EB9-9DCE-2E721B12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560" y="215640"/>
            <a:ext cx="6451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C21-D509-4F05-89AA-3246B15E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A2E-0CFB-4FFC-856B-42E0324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444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1C4-4AA2-4D1E-8B55-E939552C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2AD-E6DF-4E15-8440-9F71895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9532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254240" indent="-177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560" y="4983120"/>
            <a:ext cx="167292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9440" y="4983120"/>
            <a:ext cx="227016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37200" y="4983120"/>
            <a:ext cx="167328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6891-30B8-46DB-8C26-EA11E6583B1A}" type="slidenum">
              <a:rPr b="0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79520" y="1728720"/>
            <a:ext cx="6242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人才统计报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2720" y="3422520"/>
            <a:ext cx="5973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3360" y="364680"/>
            <a:ext cx="5859360" cy="606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单位管理：建立填报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67800" y="3365640"/>
            <a:ext cx="6156360" cy="98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建立填报单位、管理填报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：在主界面上，点击菜单栏最左边的“单位”按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336680" y="1401840"/>
            <a:ext cx="4495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3139920" y="2336760"/>
            <a:ext cx="3152880" cy="1216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1440" y="411120"/>
            <a:ext cx="5425920" cy="574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展开报表列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9600" y="3697200"/>
            <a:ext cx="5983200" cy="790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打开的窗口中单击左边的　  ，展开报表文件目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3535200" y="2654280"/>
            <a:ext cx="98640" cy="68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3079800" y="3713040"/>
            <a:ext cx="323640" cy="358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0"/>
          <p:cNvSpPr/>
          <p:nvPr/>
        </p:nvSpPr>
        <p:spPr>
          <a:xfrm>
            <a:off x="704880" y="2631960"/>
            <a:ext cx="1123920" cy="331920"/>
          </a:xfrm>
          <a:prstGeom prst="wedgeRoundRectCallout">
            <a:avLst>
              <a:gd name="adj1" fmla="val -38615"/>
              <a:gd name="adj2" fmla="val -16231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展开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4808520" y="1833480"/>
            <a:ext cx="1089000" cy="355680"/>
          </a:xfrm>
          <a:prstGeom prst="wedgeRoundRectCallout">
            <a:avLst>
              <a:gd name="adj1" fmla="val -70148"/>
              <a:gd name="adj2" fmla="val 24743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展开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" descr=""/>
          <p:cNvPicPr/>
          <p:nvPr/>
        </p:nvPicPr>
        <p:blipFill>
          <a:blip r:embed="rId4"/>
          <a:stretch/>
        </p:blipFill>
        <p:spPr>
          <a:xfrm>
            <a:off x="555480" y="1008000"/>
            <a:ext cx="34768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7720" y="458280"/>
            <a:ext cx="5104080" cy="559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选中报表类别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04880" y="3336480"/>
            <a:ext cx="5881680" cy="1295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鼠标左键单击选中需填报的报表类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单位列表：可以将单位名录转成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1454040" y="1422360"/>
            <a:ext cx="315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3360" y="458640"/>
            <a:ext cx="5921280" cy="5162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添加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66480" y="3311280"/>
            <a:ext cx="6802200" cy="1693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“添加”按钮，输入单位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名称可在以后修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通过“上移、下移”调整单位排列顺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特殊需要，可更改单位编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谨慎使用改编号功能！操作不当将会对数据造成不可恢复的损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需要，在不同的报表目录下建立其它的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1332000" y="963720"/>
            <a:ext cx="4464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填报单位信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71040" y="3479760"/>
            <a:ext cx="5792760" cy="1300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单位建立后，填写单位详细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名称要求填写与单位公章一致的单位全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写完毕后“确定”退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击工具栏“单位信息”可以重新填写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08160" y="1176480"/>
            <a:ext cx="4788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补充说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8920" y="1253880"/>
            <a:ext cx="6541920" cy="3552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在同一报表目录下建立多个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在多套报表下分别建立不同的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建立填报单位后，根据报表要求系统会自动提示用户填写填报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分报表可能不要求填写单位信息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，以“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中学” 模拟填写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填报过程，其它报表填写操作类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992160" y="1174680"/>
            <a:ext cx="409572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3368520" y="2298600"/>
            <a:ext cx="2819520" cy="2105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1080" y="458640"/>
            <a:ext cx="4925880" cy="525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编辑：打开编辑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3360" y="3026880"/>
            <a:ext cx="3025800" cy="163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检验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在此处将只列出已建立了填报单位的表类，没有填报单位的表类将不予列出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1035"/>
          <p:cNvSpPr/>
          <p:nvPr/>
        </p:nvSpPr>
        <p:spPr>
          <a:xfrm>
            <a:off x="3132000" y="3195720"/>
            <a:ext cx="1173240" cy="312480"/>
          </a:xfrm>
          <a:prstGeom prst="wedgeRoundRectCallout">
            <a:avLst>
              <a:gd name="adj1" fmla="val 5986"/>
              <a:gd name="adj2" fmla="val -23446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表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36"/>
          <p:cNvSpPr/>
          <p:nvPr/>
        </p:nvSpPr>
        <p:spPr>
          <a:xfrm>
            <a:off x="4205160" y="3665520"/>
            <a:ext cx="1128960" cy="320760"/>
          </a:xfrm>
          <a:prstGeom prst="wedgeRoundRectCallout">
            <a:avLst>
              <a:gd name="adj1" fmla="val 20111"/>
              <a:gd name="adj2" fmla="val -12418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单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37"/>
          <p:cNvSpPr/>
          <p:nvPr/>
        </p:nvSpPr>
        <p:spPr>
          <a:xfrm>
            <a:off x="5560920" y="1446120"/>
            <a:ext cx="1241640" cy="338400"/>
          </a:xfrm>
          <a:prstGeom prst="wedgeRoundRectCallout">
            <a:avLst>
              <a:gd name="adj1" fmla="val -43212"/>
              <a:gd name="adj2" fmla="val 26361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子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6360" y="365040"/>
            <a:ext cx="5870520" cy="620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录入数据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2200" y="3592440"/>
            <a:ext cx="5927760" cy="1671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编辑界面，直接在表格中填入数据，然后保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数据时可以只录入“分栏”，在录入完毕后，按“回车键”程序自动生成“合计”栏数字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以通过菜单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，设置在数据录入时，是否打开自动计算（表内计算）、校验功能（表内校验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编辑数据时，点击“单位”或“子表”，可以切换填报单位或填写报表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1382760" y="888840"/>
            <a:ext cx="47941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3000" y="411120"/>
            <a:ext cx="5986440" cy="565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表内校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05960" y="3592440"/>
            <a:ext cx="5983560" cy="15242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 fontScale="94000"/>
          </a:bodyPr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完以后，选择“操作”菜单或者鼠标右键的“表内校验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对当前表数据进行表内平衡检查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有误时，根据提示修改数据，直至校验通过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要求：请查阅填报说明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仅当下边出现“校验通过”时，再进行下一表数据的录入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352520" y="958680"/>
            <a:ext cx="47736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</a:rPr>
              <a:t>表内校验公式说明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在表内校验过程提示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1,1]=[3,1] ==&gt;  0≠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当前表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应等于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，现在不相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H,L]  =&gt;H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行；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784080" y="1368360"/>
            <a:ext cx="59738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广力公有经济企业人才统计报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用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于四川省填报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人才统计报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280" y="429840"/>
            <a:ext cx="4543560" cy="70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软件介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</a:rPr>
              <a:t>表间校验公式说明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在表内校验过程提示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1,22,1]=[2,1,1] ==&gt;  10≠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应等于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，现在不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1639800" y="1166760"/>
            <a:ext cx="4514760" cy="2190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附注填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6400" y="3327480"/>
            <a:ext cx="60724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不同报表填写要求；如果需要附注说明，在录入报表数据时，系统会自动显示在屏幕下方，如上图样例所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照实际情况填写，如无则留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2144880" y="1866960"/>
            <a:ext cx="1631880" cy="507960"/>
          </a:xfrm>
          <a:prstGeom prst="wedgeRectCallout">
            <a:avLst>
              <a:gd name="adj1" fmla="val 40680"/>
              <a:gd name="adj2" fmla="val 1278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实有人数与应有人数之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4737240" y="2120760"/>
            <a:ext cx="1011240" cy="282600"/>
          </a:xfrm>
          <a:prstGeom prst="wedgeRectCallout">
            <a:avLst>
              <a:gd name="adj1" fmla="val -59657"/>
              <a:gd name="adj2" fmla="val 201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差异原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备注填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88880" y="2832120"/>
            <a:ext cx="6408720" cy="17287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不同报表，有的在出现数据时需要另附说明以解释或者说明情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图样例：本年新增人员“其他”栏有数字时，要求补充说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元格无数据时）系统以“</a:t>
            </a:r>
            <a:r>
              <a:rPr b="0" lang="zh-CN" sz="1400" spc="-1" strike="noStrike">
                <a:solidFill>
                  <a:srgbClr val="92d050"/>
                </a:solidFill>
                <a:latin typeface="华文楷体"/>
                <a:ea typeface="华文楷体"/>
              </a:rPr>
              <a:t>淡青色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标注此类单元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元格有数据时）系统以“</a:t>
            </a:r>
            <a:r>
              <a:rPr b="0" lang="zh-CN" sz="1300" spc="-1" strike="noStrike">
                <a:solidFill>
                  <a:srgbClr val="ff0000"/>
                </a:solidFill>
                <a:latin typeface="华文楷体"/>
                <a:ea typeface="华文楷体"/>
              </a:rPr>
              <a:t>红色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标注此类单元格，用户需要注意另附文档说明该数字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3368520" y="1176480"/>
            <a:ext cx="28609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不填数据单元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60520" y="3552840"/>
            <a:ext cx="6192720" cy="1440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分报表表格不能填写数据（也称只读），如 “中央”层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编辑数据时，系统默认以灰色填充相应单元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报表时，相应单元格将会显示为“－”，并居中显示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时，该标志会自动取消，不会显示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“显示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颜色设置”，可调整单元格颜色配置（不会影响填报数据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43466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488880" y="1136520"/>
            <a:ext cx="4857840" cy="1105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654120" y="550800"/>
            <a:ext cx="62150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计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3176640" y="1897200"/>
            <a:ext cx="3527280" cy="2266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344520" y="2408400"/>
            <a:ext cx="4248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生成“总表”数据、合计行、合计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下可能需要用到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.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总表）、平均年龄、平均工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报表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子表（建议全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单位，点 开始 进行计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"/>
          <p:cNvPicPr/>
          <p:nvPr/>
        </p:nvPicPr>
        <p:blipFill>
          <a:blip r:embed="rId1"/>
          <a:stretch/>
        </p:blipFill>
        <p:spPr>
          <a:xfrm>
            <a:off x="3800520" y="2544840"/>
            <a:ext cx="3024000" cy="1942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360" y="528480"/>
            <a:ext cx="6215040" cy="4874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校验：表间校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71080" y="2544840"/>
            <a:ext cx="3529080" cy="2527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检查报表数据表内、表间关系是否完全平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表间校验后，才能生成上报数据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要校验的报表类别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子表时要求全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要审核的单位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 开始 进行审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校验级别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处按国家要求提供数据校验规则并强制执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强制校验属于增强校验功能，目的在于进一步挖掘数据中的不合理之处，需要定制开发才能使用，本处暂不可用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178160" y="1469880"/>
            <a:ext cx="2292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lvl="1" marL="35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前单位的所有子表的数据都填写完毕并且表内校验都通过以后，退出“录改”功能，在主界面上点“校验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838680" y="4416480"/>
            <a:ext cx="1833480" cy="450720"/>
          </a:xfrm>
          <a:prstGeom prst="wedgeRectCallout">
            <a:avLst>
              <a:gd name="adj1" fmla="val 30824"/>
              <a:gd name="adj2" fmla="val -11049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选项可以查出没有填数据的报表，用于防止漏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573120" y="1327320"/>
            <a:ext cx="4019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1496880" y="1031760"/>
            <a:ext cx="3492720" cy="2260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1440" y="410760"/>
            <a:ext cx="5992560" cy="54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：数据完全正确的标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71280" y="3538440"/>
            <a:ext cx="4916520" cy="1525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有不通过审核，请进入“录改”调整相应数据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重新进行“表间校验”，直至全部通过审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提示中有“是否要查看无数据信息”内容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有个别报表没有填写数据（用作参考，不影响上报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!!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只能在“校验通过”后才能上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2216160" y="2455920"/>
            <a:ext cx="1243080" cy="511200"/>
          </a:xfrm>
          <a:prstGeom prst="wedgeRoundRectCallout">
            <a:avLst>
              <a:gd name="adj1" fmla="val 24870"/>
              <a:gd name="adj2" fmla="val -10085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数据已全部正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4494240" y="2544840"/>
            <a:ext cx="992160" cy="566640"/>
          </a:xfrm>
          <a:prstGeom prst="wedgeRoundRectCallout">
            <a:avLst>
              <a:gd name="adj1" fmla="val -54277"/>
              <a:gd name="adj2" fmla="val -8351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空白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7720" y="410760"/>
            <a:ext cx="5632560" cy="522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汇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6040" y="2687400"/>
            <a:ext cx="6040440" cy="2144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于人事综合单位（如人社厅、市（州）、区县人事局、行业主管部门（教育局、卫生局），将下级单位的数据叠加在一起，生成汇总数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：教育局将下属各中学填报的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汇总生成整个教育系统的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总表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的，基层填报单位不需要使用此项功能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584360" y="1074600"/>
            <a:ext cx="4000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汇总：操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69720" y="3422520"/>
            <a:ext cx="6453360" cy="1425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图：按照步骤从上到下依次设置各选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要将汇总“单位”与“目标单位”设置为同一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论是否需要填写相应报表，选表时要求全选所有报表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“保存方案、读取方案”可以保存或者读取汇总选项设置，方便以后继续使用汇总方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35160" y="808200"/>
            <a:ext cx="3573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4000" y="365040"/>
            <a:ext cx="6264360" cy="628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打印：单张打印或导出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50880" y="330984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录改数据中，点“预览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：直接打印当前预览表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级打印：可选择打印机、设置打印份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：将当前预览表页输出为</a:t>
            </a:r>
            <a:r>
              <a:rPr b="0" lang="en-US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。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912960" y="1501920"/>
            <a:ext cx="5630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429840"/>
            <a:ext cx="4543560" cy="70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软件安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6400" y="1501560"/>
            <a:ext cx="5615280" cy="2509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光盘放入光驱，在弹出的安装界面上单击“安装报表系统”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开“我的电脑”，找到光驱或报表安装程序的文件包，直接双击运行其中的“</a:t>
            </a:r>
            <a:r>
              <a:rPr b="0" lang="en-US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tup.exe”</a:t>
            </a: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1024"/>
          <p:cNvGraphicFramePr/>
          <p:nvPr/>
        </p:nvGraphicFramePr>
        <p:xfrm>
          <a:off x="358920" y="1703520"/>
          <a:ext cx="395100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1703520"/>
                    <a:ext cx="3951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2778120" y="1898640"/>
            <a:ext cx="4152960" cy="2986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7360" y="317160"/>
            <a:ext cx="6094440" cy="685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打印：批量打印或输出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1760" y="1163520"/>
            <a:ext cx="5157720" cy="439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主界面上，选“打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030"/>
          <p:cNvSpPr/>
          <p:nvPr/>
        </p:nvSpPr>
        <p:spPr>
          <a:xfrm>
            <a:off x="4600440" y="3875040"/>
            <a:ext cx="19195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以批量打印或输出为</a:t>
            </a:r>
            <a:r>
              <a:rPr b="0" lang="en-US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文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31"/>
          <p:cNvSpPr/>
          <p:nvPr/>
        </p:nvSpPr>
        <p:spPr>
          <a:xfrm>
            <a:off x="3076560" y="3225960"/>
            <a:ext cx="1071720" cy="563400"/>
          </a:xfrm>
          <a:prstGeom prst="wedgeRoundRectCallout">
            <a:avLst>
              <a:gd name="adj1" fmla="val 78537"/>
              <a:gd name="adj2" fmla="val -13438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复选框前打“勾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33"/>
          <p:cNvSpPr/>
          <p:nvPr/>
        </p:nvSpPr>
        <p:spPr>
          <a:xfrm>
            <a:off x="452520" y="3125880"/>
            <a:ext cx="2092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时打印或导出多个单位、多张表的数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66720" y="411120"/>
            <a:ext cx="56419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数据报盘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47800" y="3336840"/>
            <a:ext cx="5914800" cy="1533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将报表数据生成上报文件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明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同时上报一套表或者多套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同时上报一个单位或者多个单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推荐：按照管理对口的原则，一次只上报一套表（可多单位一起上报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Object 1024"/>
          <p:cNvGraphicFramePr/>
          <p:nvPr/>
        </p:nvGraphicFramePr>
        <p:xfrm>
          <a:off x="847800" y="1247760"/>
          <a:ext cx="573552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247760"/>
                    <a:ext cx="57355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2722680" y="1163520"/>
            <a:ext cx="4046400" cy="2740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1440" y="317520"/>
            <a:ext cx="626400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选择报表类别与报送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100160" y="1446120"/>
            <a:ext cx="1589040" cy="677880"/>
          </a:xfrm>
          <a:prstGeom prst="wedgeRoundRectCallout">
            <a:avLst>
              <a:gd name="adj1" fmla="val 84689"/>
              <a:gd name="adj2" fmla="val 47203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择上报类别，下一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2"/>
          <a:stretch/>
        </p:blipFill>
        <p:spPr>
          <a:xfrm>
            <a:off x="920880" y="2255760"/>
            <a:ext cx="3713040" cy="25606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6"/>
          <p:cNvSpPr/>
          <p:nvPr/>
        </p:nvSpPr>
        <p:spPr>
          <a:xfrm>
            <a:off x="2144880" y="3336840"/>
            <a:ext cx="1792080" cy="565200"/>
          </a:xfrm>
          <a:prstGeom prst="wedgeRoundRectCallout">
            <a:avLst>
              <a:gd name="adj1" fmla="val -79231"/>
              <a:gd name="adj2" fmla="val -7797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择上报单位，然后下一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565200" y="1133640"/>
            <a:ext cx="4002120" cy="2703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2"/>
          <a:stretch/>
        </p:blipFill>
        <p:spPr>
          <a:xfrm>
            <a:off x="2567160" y="1841400"/>
            <a:ext cx="4203360" cy="30844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280" y="317160"/>
            <a:ext cx="6402600" cy="817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设置报盘文件存放目录和文件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5313240" y="3984480"/>
            <a:ext cx="1150920" cy="284400"/>
          </a:xfrm>
          <a:prstGeom prst="wedgeRoundRectCallout">
            <a:avLst>
              <a:gd name="adj1" fmla="val 26495"/>
              <a:gd name="adj2" fmla="val 12972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最后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3754440" y="3384720"/>
            <a:ext cx="1353960" cy="884160"/>
          </a:xfrm>
          <a:prstGeom prst="wedgeRoundRectCallout">
            <a:avLst>
              <a:gd name="adj1" fmla="val 17967"/>
              <a:gd name="adj2" fmla="val 8059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然后输入详细的上报文件名（如：单位名称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类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82480" y="2892600"/>
            <a:ext cx="1202040" cy="492120"/>
          </a:xfrm>
          <a:prstGeom prst="wedgeRectCallout">
            <a:avLst>
              <a:gd name="adj1" fmla="val 23356"/>
              <a:gd name="adj2" fmla="val -15649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置上报文件存放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509760" y="1168560"/>
            <a:ext cx="4047840" cy="2741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458280"/>
            <a:ext cx="4821480" cy="459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生成报送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09760" y="3206880"/>
            <a:ext cx="1896840" cy="441360"/>
          </a:xfrm>
          <a:prstGeom prst="wedgeRoundRectCallout">
            <a:avLst>
              <a:gd name="adj1" fmla="val -20620"/>
              <a:gd name="adj2" fmla="val -17661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最后将所生成的上报文件报送上级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2"/>
          <a:stretch/>
        </p:blipFill>
        <p:spPr>
          <a:xfrm>
            <a:off x="3579840" y="2344680"/>
            <a:ext cx="3211560" cy="21654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7"/>
          <p:cNvSpPr/>
          <p:nvPr/>
        </p:nvSpPr>
        <p:spPr>
          <a:xfrm>
            <a:off x="2567160" y="3909960"/>
            <a:ext cx="1072800" cy="266760"/>
          </a:xfrm>
          <a:prstGeom prst="wedgeRoundRectCallout">
            <a:avLst>
              <a:gd name="adj1" fmla="val 21916"/>
              <a:gd name="adj2" fmla="val -10443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点完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051520" y="2689200"/>
            <a:ext cx="1015920" cy="450720"/>
          </a:xfrm>
          <a:prstGeom prst="wedgeRoundRectCallout">
            <a:avLst>
              <a:gd name="adj1" fmla="val -21958"/>
              <a:gd name="adj2" fmla="val 13011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成功生成上报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3240" y="455400"/>
            <a:ext cx="4730760" cy="507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查看上报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57000" y="2388960"/>
            <a:ext cx="3344760" cy="23907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何验证报文件是否有数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“数据交换”下的“查看报送盘”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选中相应上报文件即可查看数据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上报文件已加密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不能通过直接双击上报文件的方式打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4002120" y="2389320"/>
            <a:ext cx="2271600" cy="1869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657360" y="1374840"/>
            <a:ext cx="5814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何上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生成的上报盘文件，复制给上级单位即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补充说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6480" y="1220760"/>
            <a:ext cx="6453000" cy="381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内容（电子数据文件）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生成的上报数据文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必要的报表补充说明（用户自行另附文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成的上报文件中有那些信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单位、单位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数据、报表附注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生成的上报数据文件不能用直接打开的方式，如需查看其中信息，请通过“查看上报盘”功能查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数据如有更新，请重新生成上报数据文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075040" y="1165320"/>
            <a:ext cx="4897440" cy="1606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8520" y="452160"/>
            <a:ext cx="4730760" cy="507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接收数据：选择上报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73040" y="1995480"/>
            <a:ext cx="405612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38520" y="2832120"/>
            <a:ext cx="2260800" cy="2232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接收下级单位上报数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击“接收报送盘”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弹出的窗口中选择上报文件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击“下一步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8520" y="461520"/>
            <a:ext cx="4730760" cy="506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收数据：设置单位对应关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2333520" y="1003320"/>
            <a:ext cx="4392720" cy="3000240"/>
          </a:xfrm>
          <a:prstGeom prst="rect">
            <a:avLst/>
          </a:prstGeom>
          <a:ln w="0">
            <a:noFill/>
          </a:ln>
        </p:spPr>
      </p:pic>
      <p:sp>
        <p:nvSpPr>
          <p:cNvPr id="205" name="矩形标注 6"/>
          <p:cNvSpPr/>
          <p:nvPr/>
        </p:nvSpPr>
        <p:spPr>
          <a:xfrm>
            <a:off x="5078520" y="1849320"/>
            <a:ext cx="1673280" cy="505080"/>
          </a:xfrm>
          <a:prstGeom prst="wedgeRectCallout">
            <a:avLst>
              <a:gd name="adj1" fmla="val -73245"/>
              <a:gd name="adj2" fmla="val 262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对应有误时撤消对应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标注 13"/>
          <p:cNvSpPr/>
          <p:nvPr/>
        </p:nvSpPr>
        <p:spPr>
          <a:xfrm>
            <a:off x="4675320" y="2424240"/>
            <a:ext cx="2016000" cy="523800"/>
          </a:xfrm>
          <a:prstGeom prst="wedgeRectCallout">
            <a:avLst>
              <a:gd name="adj1" fmla="val 24615"/>
              <a:gd name="adj2" fmla="val 1125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中无上报单位时，点此自动添加上报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标注 14"/>
          <p:cNvSpPr/>
          <p:nvPr/>
        </p:nvSpPr>
        <p:spPr>
          <a:xfrm>
            <a:off x="3549600" y="1003320"/>
            <a:ext cx="1944720" cy="719280"/>
          </a:xfrm>
          <a:prstGeom prst="wedgeRectCallout">
            <a:avLst>
              <a:gd name="adj1" fmla="val -31250"/>
              <a:gd name="adj2" fmla="val 1190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单位与系统中已有单位</a:t>
            </a:r>
            <a:r>
              <a:rPr b="1" lang="zh-CN" sz="1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名称不一致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人工匹配接收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标注 7"/>
          <p:cNvSpPr/>
          <p:nvPr/>
        </p:nvSpPr>
        <p:spPr>
          <a:xfrm>
            <a:off x="2000160" y="2725560"/>
            <a:ext cx="1371600" cy="322560"/>
          </a:xfrm>
          <a:prstGeom prst="wedgeRoundRectCallout">
            <a:avLst>
              <a:gd name="adj1" fmla="val 25787"/>
              <a:gd name="adj2" fmla="val 10915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收数据年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标注 8"/>
          <p:cNvSpPr/>
          <p:nvPr/>
        </p:nvSpPr>
        <p:spPr>
          <a:xfrm>
            <a:off x="2647800" y="3436920"/>
            <a:ext cx="2114640" cy="755640"/>
          </a:xfrm>
          <a:prstGeom prst="wedgeRoundRectCallout">
            <a:avLst>
              <a:gd name="adj1" fmla="val 12583"/>
              <a:gd name="adj2" fmla="val -12526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单位与系统中已有单位</a:t>
            </a:r>
            <a:r>
              <a:rPr b="1" lang="zh-CN" sz="1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名称一致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软件自动匹配接收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31800" y="4003560"/>
            <a:ext cx="63230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能够自动匹配名称相同的单位并列出接收对应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单位名称不同的单位，手工设置接收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系统中不存在的单位，单击“自动增加上报盘中尚未对应的单位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完成后，单击“完成”开始接收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查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612720" y="3622680"/>
            <a:ext cx="63230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查询报表的特定行或列，选择多单位对比浏览行列数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菜单“报表处理”下的行查询或列查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报表目录中选择要查询的子表和单位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932120" y="960480"/>
            <a:ext cx="4316400" cy="2433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284120" y="2112840"/>
            <a:ext cx="15084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681120" y="1266840"/>
            <a:ext cx="3286080" cy="225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4664160" y="2544840"/>
            <a:ext cx="1724040" cy="113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410760"/>
            <a:ext cx="5929200" cy="560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安装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5960" y="3839760"/>
            <a:ext cx="5587920" cy="1003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次安装后请重新启动计算机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支持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s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列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位操作系统，安装时需要具有管理员权限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不需执行“安装数据驱动”一项，操作系统是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5</a:t>
            </a:r>
            <a:r>
              <a:rPr b="0" lang="zh-CN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8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版的计算机需要安装此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5227560" y="2544840"/>
            <a:ext cx="790560" cy="338040"/>
          </a:xfrm>
          <a:prstGeom prst="wedgeRoundRectCallout">
            <a:avLst>
              <a:gd name="adj1" fmla="val -65750"/>
              <a:gd name="adj2" fmla="val 151837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4065480" y="1544760"/>
            <a:ext cx="733680" cy="339480"/>
          </a:xfrm>
          <a:prstGeom prst="wedgeRoundRectCallout">
            <a:avLst>
              <a:gd name="adj1" fmla="val -123120"/>
              <a:gd name="adj2" fmla="val 19729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查询：切换模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2720" y="3622680"/>
            <a:ext cx="63230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按钮按钮说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行查询、列查询”：切换查询模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    行（列）”：切换查询特定的行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、打印” ：当前表导出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或者直接打印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455840" y="992160"/>
            <a:ext cx="4884480" cy="2427480"/>
          </a:xfrm>
          <a:prstGeom prst="rect">
            <a:avLst/>
          </a:prstGeom>
          <a:ln w="0">
            <a:noFill/>
          </a:ln>
        </p:spPr>
      </p:pic>
      <p:sp>
        <p:nvSpPr>
          <p:cNvPr id="218" name="矩形标注 8"/>
          <p:cNvSpPr/>
          <p:nvPr/>
        </p:nvSpPr>
        <p:spPr>
          <a:xfrm>
            <a:off x="1171440" y="1749600"/>
            <a:ext cx="733680" cy="393480"/>
          </a:xfrm>
          <a:prstGeom prst="wedgeRectCallout">
            <a:avLst>
              <a:gd name="adj1" fmla="val 64768"/>
              <a:gd name="adj2" fmla="val -1064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切换查询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标注 12"/>
          <p:cNvSpPr/>
          <p:nvPr/>
        </p:nvSpPr>
        <p:spPr>
          <a:xfrm>
            <a:off x="3259080" y="1841400"/>
            <a:ext cx="1030320" cy="451080"/>
          </a:xfrm>
          <a:prstGeom prst="wedgeRectCallout">
            <a:avLst>
              <a:gd name="adj1" fmla="val -64453"/>
              <a:gd name="adj2" fmla="val -537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查询行列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标注 13"/>
          <p:cNvSpPr/>
          <p:nvPr/>
        </p:nvSpPr>
        <p:spPr>
          <a:xfrm>
            <a:off x="1327320" y="2292480"/>
            <a:ext cx="733320" cy="396720"/>
          </a:xfrm>
          <a:prstGeom prst="wedgeRectCallout">
            <a:avLst>
              <a:gd name="adj1" fmla="val 78240"/>
              <a:gd name="adj2" fmla="val -877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切换查询行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备份恢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92200" y="2518920"/>
            <a:ext cx="6323040" cy="2427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了在紧急时候能迅速恢复你的工作，请注意经常备份你的数据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在数据录入、修改期间，每天进行一次备份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退出软件时，选择“备份后退出”，系统将自动把数据备份在安装目录下</a:t>
            </a:r>
            <a:r>
              <a:rPr b="0" lang="en-US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保管好你最新的备份文件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备份与恢复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“系统维护”下的“备份数据”；备份后将备份数据复制到安全的位置存储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“系统维护”下的“恢复数据”，可以选择以前的备份数据并还原到该数据备份时的状态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恢复备份后，当前的数据将会被覆盖，请在恢复前确认当前的数据是否需要保留，如有必要，请先备份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优化数据：整理数据文件碎片，可以提高运行速度，每周运行一次及可！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定访问密码：“工具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修改密码可设置打开软件的密码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Object 0"/>
          <p:cNvGraphicFramePr/>
          <p:nvPr/>
        </p:nvGraphicFramePr>
        <p:xfrm>
          <a:off x="1382760" y="1052640"/>
          <a:ext cx="3943440" cy="12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1052640"/>
                    <a:ext cx="394344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1800" y="312840"/>
            <a:ext cx="4875120" cy="604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、技术支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首先参阅本演示文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话支持：</a:t>
            </a:r>
            <a:r>
              <a:rPr b="0" lang="en-US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028-86081997</a:t>
            </a: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转</a:t>
            </a:r>
            <a:r>
              <a:rPr b="0" lang="en-US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电联系时：请首先说明你的单位名称、所使用软件版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准备好纸、笔，以便及时记录我们给你的答复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邮件：</a:t>
            </a:r>
            <a:r>
              <a:rPr b="0" lang="en-US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glsoft@263.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邮件时：请在邮件中留下你的单位名称、联系人姓名、联系电话、所使用软件版本、问题描述，以方便我们及时与你联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可能，请在邮件中附上你的备份数据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运行期间：请关注省厅或相关网站核实本软件有否更新，如有请及时下载并应用更新 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000" y="317160"/>
            <a:ext cx="5856120" cy="630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打开软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60240" y="3422520"/>
            <a:ext cx="5645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 fontScale="91000"/>
          </a:bodyPr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击桌面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广力公有经济企业统计报表”图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：（不同报表）程序图标名称约有不同，请注意区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弹出的登录框中，用户名一栏选择管理员或操作员用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份应是“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4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预设密码均为空，直接确定即可进入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1496880" y="1123920"/>
            <a:ext cx="1013040" cy="395280"/>
          </a:xfrm>
          <a:prstGeom prst="wedgeRoundRectCallout">
            <a:avLst>
              <a:gd name="adj1" fmla="val 2648"/>
              <a:gd name="adj2" fmla="val 18113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击打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1625760" y="2039760"/>
            <a:ext cx="695160" cy="905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2884320" y="1123920"/>
            <a:ext cx="3600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1080" y="504720"/>
            <a:ext cx="58705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兼容性设置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3840" y="3995280"/>
            <a:ext cx="5985000" cy="136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此为软件只支持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windows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系列中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及及以下版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3800520" y="504720"/>
            <a:ext cx="2143080" cy="3241800"/>
          </a:xfrm>
          <a:prstGeom prst="rect">
            <a:avLst/>
          </a:prstGeom>
          <a:ln w="0">
            <a:noFill/>
          </a:ln>
        </p:spPr>
      </p:pic>
      <p:sp>
        <p:nvSpPr>
          <p:cNvPr id="68" name="矩形 2"/>
          <p:cNvSpPr/>
          <p:nvPr/>
        </p:nvSpPr>
        <p:spPr>
          <a:xfrm>
            <a:off x="236520" y="153504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装后根据电脑系统改一下软件兼容性，例如：电脑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报表软件右键点属性，点兼容性，把一兼容性模式运行的选项勾上，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9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如果电脑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就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1080" y="504720"/>
            <a:ext cx="58705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1360" y="3479400"/>
            <a:ext cx="5983200" cy="136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为打开软件的第一个界面：软件主界面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栏：提供填报报表的主要功能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菜单栏：报表查询、表样收发、数据备份恢复、修改系统密码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力报表使用风格：从左至右，依次执行工具栏各功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603360" y="1190520"/>
            <a:ext cx="57466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软件主要功能</a:t>
            </a:r>
            <a:r>
              <a:rPr b="1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12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1" lang="zh-CN" sz="1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必用</a:t>
            </a:r>
            <a:r>
              <a:rPr b="1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8560" y="1253880"/>
            <a:ext cx="6583320" cy="3552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建立数据填报单位、管理填报单位信息、导出单位名录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改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编辑、浏览报表数据、打印报表、或者将数据导出</a:t>
            </a:r>
            <a:r>
              <a:rPr b="0" lang="en-US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审核报表数据是否正确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汇总：将多个单位的数据叠加累计到一个综合单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层单位一般不必使用此功能，主要是人事综合单位使用，如人社厅、市（州）、区县人事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：批量打印报表或导出为</a:t>
            </a:r>
            <a:r>
              <a:rPr b="0" lang="en-US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盘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上报数据，自动生成电子上报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：用于计算生成总表、平均年龄、平均工资、合计行、合计列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处为表间计算，主要用于生成总表数据，如“公务员基本情况（总表）”、“全国机关职工分职务层次人数和工资情况”等；本处也具备表内计算功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改时使用表内计算，可以快速计算出当前表的平均年龄、平均工资、合计行、合计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查询：查询报表的特定行或列，各单位对比浏览行列数据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风格：工具栏从左向右依次进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271440" y="892080"/>
            <a:ext cx="1508040" cy="8226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784520" y="134316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016520" y="134316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720880" y="3624120"/>
            <a:ext cx="325440" cy="147960"/>
          </a:xfrm>
          <a:prstGeom prst="rightArrow">
            <a:avLst>
              <a:gd name="adj1" fmla="val 50000"/>
              <a:gd name="adj2" fmla="val 5812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2"/>
          <a:stretch/>
        </p:blipFill>
        <p:spPr>
          <a:xfrm>
            <a:off x="-15840" y="2544840"/>
            <a:ext cx="2666880" cy="1942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4"/>
          <p:cNvSpPr/>
          <p:nvPr/>
        </p:nvSpPr>
        <p:spPr>
          <a:xfrm>
            <a:off x="6715080" y="127152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"/>
          <p:cNvPicPr/>
          <p:nvPr/>
        </p:nvPicPr>
        <p:blipFill>
          <a:blip r:embed="rId3"/>
          <a:stretch/>
        </p:blipFill>
        <p:spPr>
          <a:xfrm>
            <a:off x="3152880" y="3192480"/>
            <a:ext cx="1166760" cy="86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4"/>
          <a:stretch/>
        </p:blipFill>
        <p:spPr>
          <a:xfrm>
            <a:off x="4737240" y="2400480"/>
            <a:ext cx="2447640" cy="20858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7"/>
          <p:cNvSpPr/>
          <p:nvPr/>
        </p:nvSpPr>
        <p:spPr>
          <a:xfrm>
            <a:off x="4448160" y="355284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0" y="4560840"/>
            <a:ext cx="7169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特殊操作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11----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缩小表册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12----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放大表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1080" y="239400"/>
            <a:ext cx="6451560" cy="431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步操作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6" descr=""/>
          <p:cNvPicPr/>
          <p:nvPr/>
        </p:nvPicPr>
        <p:blipFill>
          <a:blip r:embed="rId5"/>
          <a:stretch/>
        </p:blipFill>
        <p:spPr>
          <a:xfrm>
            <a:off x="2144880" y="816120"/>
            <a:ext cx="1871640" cy="981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0"/>
          <p:cNvSpPr/>
          <p:nvPr/>
        </p:nvSpPr>
        <p:spPr>
          <a:xfrm>
            <a:off x="2727360" y="1901880"/>
            <a:ext cx="1000080" cy="339840"/>
          </a:xfrm>
          <a:prstGeom prst="wedgeRoundRectCallout">
            <a:avLst>
              <a:gd name="adj1" fmla="val -68986"/>
              <a:gd name="adj2" fmla="val -13207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右键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3084480" y="2544840"/>
            <a:ext cx="1000080" cy="339480"/>
          </a:xfrm>
          <a:prstGeom prst="wedgeRoundRectCallout">
            <a:avLst>
              <a:gd name="adj1" fmla="val 21240"/>
              <a:gd name="adj2" fmla="val 193750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录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标注 18"/>
          <p:cNvSpPr/>
          <p:nvPr/>
        </p:nvSpPr>
        <p:spPr>
          <a:xfrm>
            <a:off x="847800" y="1679400"/>
            <a:ext cx="842760" cy="360360"/>
          </a:xfrm>
          <a:prstGeom prst="wedgeRectCallout">
            <a:avLst>
              <a:gd name="adj1" fmla="val -101222"/>
              <a:gd name="adj2" fmla="val -1086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点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6"/>
          <a:stretch/>
        </p:blipFill>
        <p:spPr>
          <a:xfrm>
            <a:off x="4341960" y="712800"/>
            <a:ext cx="2303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5:30:57Z</dcterms:created>
  <dc:creator>xwn</dc:creator>
  <dc:description/>
  <dc:language>en-US</dc:language>
  <cp:lastModifiedBy>YJ</cp:lastModifiedBy>
  <cp:lastPrinted>2010-12-02T06:09:16Z</cp:lastPrinted>
  <dcterms:modified xsi:type="dcterms:W3CDTF">2025-01-21T02:33:12Z</dcterms:modified>
  <cp:revision>462</cp:revision>
  <dc:subject/>
  <dc:title>报表2004版安装说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</Properties>
</file>